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801-08C2-4CF4-8188-21B0F25E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AE0-DEAE-4A68-ADCC-AB2B6EA8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3EC-6BEF-46D0-B6FB-970310FC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0764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56476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5088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60764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56476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697-5E54-4932-A5A1-8BDD3E74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B8F4-D513-4109-8C01-300DA67F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B4C2-5F61-4A43-866D-64D95DF0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3AEF-4609-43CA-82B9-EB79CC40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D3C3-F843-4259-83CF-952D5217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90FC-5573-4F28-A57D-A1C721CC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50880" y="100152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15B8-0AB5-4E60-B466-CBBAD898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7113-8B1F-4FD5-95BC-C7CA71B9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53D-561B-4A31-B897-BE6E3B88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65FB-7C5C-4887-8455-D3114A67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E339-51EA-47C2-9B45-E700EB68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BB22-B408-44EC-A314-70C0DC83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297E-EB80-4578-8C8C-3B449813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0764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56476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5088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60764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56476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CE35-A4CC-490D-BDA4-142BE9D4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D900-7233-4F64-B2E0-82BEC82E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C1DA5-AC84-41FC-83EF-1709ECB2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2D28E-3B6D-46C9-B7B2-EB08DCBC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095B-C2FA-4EEC-9357-0B560305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0DAA0-87D8-471F-96A6-69B143FC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938-3BB7-405D-89C1-4675E7E6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50880" y="100152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4DD73-06B3-4C7B-9738-32AB5105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B80BE-CBD9-49F7-BC3C-3ACC669D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34F60-0D6D-4DD5-AEB5-BBD5D19B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09A2E-88A0-4B4B-B5E2-A3829A50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E161-0723-4070-8B84-F2934E26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19796-C8DC-4AB9-B2B4-63BD3246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764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476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5088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764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476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04A1-9A93-4641-8738-AAF0D2DF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501D8-1F6D-4092-8014-06A2DB64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39DD5-FE45-4E0B-87CA-D0C57B44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543A2-0A52-43B6-96E9-98D80942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88E-4729-4D52-BB63-F32AE8C7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15DC9-A3D3-490B-8AC1-E6FC23D6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4B2D6-D4E8-4567-BC39-1EFAF1DD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50880" y="100152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FECFB-94A5-46B2-9EC2-B0197E09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1266C-EB1C-4AAC-82F5-79CAB43A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AF226-97F0-421F-AE19-8F7F665A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0ACC1-B3A2-4DCC-8625-A70307A8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EF89A-301F-4E63-8E42-E0058F5A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93CCC-D757-4819-BC11-70A82F8F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0764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564760" y="275220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5088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60764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564760" y="6012720"/>
            <a:ext cx="376812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74610-54F5-42A4-A17D-F7D38211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7EF-DE1A-4568-AA59-A6C0E78F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50880" y="100152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9DA-7976-49AC-AB70-4FDDC400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6CB-71A1-4123-B38B-31C2AD56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47400" y="601272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52A-CE32-49FB-A191-A93C5B9D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47400" y="2752200"/>
            <a:ext cx="57106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0880" y="6012720"/>
            <a:ext cx="11702880" cy="297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001-DB52-41C8-9FA3-9CF6387A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4400" y="-9360"/>
            <a:ext cx="13033440" cy="1481040"/>
          </a:xfrm>
          <a:custGeom>
            <a:avLst/>
            <a:gdLst>
              <a:gd name="textAreaLeft" fmla="*/ 0 w 13033440"/>
              <a:gd name="textAreaRight" fmla="*/ 13033800 w 1303344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6230880" y="-9360"/>
            <a:ext cx="6773760" cy="906120"/>
          </a:xfrm>
          <a:custGeom>
            <a:avLst/>
            <a:gdLst>
              <a:gd name="textAreaLeft" fmla="*/ 0 w 6773760"/>
              <a:gd name="textAreaRight" fmla="*/ 6774120 w 677376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909720" indent="-35100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2" marL="1300320" indent="-351000">
              <a:spcBef>
                <a:spcPts val="9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3" marL="1689120" indent="-298440">
              <a:spcBef>
                <a:spcPts val="9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4" marL="2079720" indent="-298440">
              <a:spcBef>
                <a:spcPts val="924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5" marL="2079720" indent="-298440"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6" marL="2079720" indent="-298440"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45c75"/>
                </a:solidFill>
                <a:latin typeface="Chalkboar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45c75"/>
                </a:solidFill>
                <a:latin typeface="Chalkboard"/>
              </a:rPr>
              <a:t>&lt;date/time&gt;</a:t>
            </a:r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792240" y="9040680"/>
            <a:ext cx="4768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1270880" y="9040680"/>
            <a:ext cx="108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45c75"/>
                </a:solidFill>
                <a:latin typeface="Chalkboar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68B1-3B67-4176-B782-6BDB009D2C1E}" type="slidenum">
              <a:rPr b="0" lang="en-US" sz="1700" spc="-1" strike="noStrike">
                <a:solidFill>
                  <a:srgbClr val="045c75"/>
                </a:solidFill>
                <a:latin typeface="Chalkboard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27000" y="287280"/>
            <a:ext cx="13057560" cy="924120"/>
            <a:chOff x="-27000" y="287280"/>
            <a:chExt cx="13057560" cy="92412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7000" y="287280"/>
              <a:ext cx="13026960" cy="924120"/>
              <a:chOff x="-27000" y="287280"/>
              <a:chExt cx="13026960" cy="92412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0" y="287280"/>
                <a:ext cx="12991680" cy="92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6640" y="679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300" spc="-1" strike="noStrike">
                  <a:solidFill>
                    <a:srgbClr val="ffffff"/>
                  </a:solidFill>
                  <a:latin typeface="Chalkboar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27000" y="351720"/>
              <a:ext cx="13057560" cy="802440"/>
              <a:chOff x="-27000" y="351720"/>
              <a:chExt cx="13057560" cy="8024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60" y="351720"/>
                <a:ext cx="13032720" cy="80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6640" y="744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300" spc="-1" strike="noStrike">
                  <a:solidFill>
                    <a:srgbClr val="ffffff"/>
                  </a:solidFill>
                  <a:latin typeface="Chalkboar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14400" y="-9360"/>
            <a:ext cx="13033440" cy="1481040"/>
          </a:xfrm>
          <a:custGeom>
            <a:avLst/>
            <a:gdLst>
              <a:gd name="textAreaLeft" fmla="*/ 0 w 13033440"/>
              <a:gd name="textAreaRight" fmla="*/ 13033800 w 1303344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6230880" y="-9360"/>
            <a:ext cx="6773760" cy="906120"/>
          </a:xfrm>
          <a:custGeom>
            <a:avLst/>
            <a:gdLst>
              <a:gd name="textAreaLeft" fmla="*/ 0 w 6773760"/>
              <a:gd name="textAreaRight" fmla="*/ 6774120 w 677376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27000" y="287280"/>
            <a:ext cx="13057560" cy="924120"/>
            <a:chOff x="-27000" y="287280"/>
            <a:chExt cx="13057560" cy="92412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27000" y="287280"/>
              <a:ext cx="13026960" cy="924120"/>
              <a:chOff x="-27000" y="287280"/>
              <a:chExt cx="13026960" cy="92412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0" y="287280"/>
                <a:ext cx="12991680" cy="92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6640" y="679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300" spc="-1" strike="noStrike">
                  <a:solidFill>
                    <a:srgbClr val="ffffff"/>
                  </a:solidFill>
                  <a:latin typeface="Chalkboar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27000" y="351720"/>
              <a:ext cx="13057560" cy="802440"/>
              <a:chOff x="-27000" y="351720"/>
              <a:chExt cx="13057560" cy="8024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60" y="351720"/>
                <a:ext cx="13032720" cy="80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6640" y="744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300" spc="-1" strike="noStrike">
                  <a:solidFill>
                    <a:srgbClr val="ffffff"/>
                  </a:solidFill>
                  <a:latin typeface="Chalkboar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1" marL="909720" indent="-35100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2" marL="1300320" indent="-351000">
              <a:spcBef>
                <a:spcPts val="9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3" marL="1689120" indent="-298440">
              <a:spcBef>
                <a:spcPts val="9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4" marL="2079720" indent="-298440">
              <a:spcBef>
                <a:spcPts val="924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5" marL="2079720" indent="-298440">
              <a:spcBef>
                <a:spcPts val="924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6" marL="2079720" indent="-298440">
              <a:spcBef>
                <a:spcPts val="924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d1eaee"/>
                </a:solidFill>
                <a:latin typeface="Chalkboar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1eaee"/>
                </a:solidFill>
                <a:latin typeface="Chalkboard"/>
              </a:rPr>
              <a:t>&lt;date/time&gt;</a:t>
            </a:r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792240" y="9040680"/>
            <a:ext cx="4768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270880" y="9040680"/>
            <a:ext cx="108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d1eaee"/>
                </a:solidFill>
                <a:latin typeface="Chalkboar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71C4-5077-4A70-8385-6E87A478F856}" type="slidenum">
              <a:rPr b="0" lang="en-US" sz="1700" spc="-1" strike="noStrike">
                <a:solidFill>
                  <a:srgbClr val="d1eaee"/>
                </a:solidFill>
                <a:latin typeface="Chalkboard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14400" y="-9360"/>
            <a:ext cx="13033440" cy="1481040"/>
          </a:xfrm>
          <a:custGeom>
            <a:avLst/>
            <a:gdLst>
              <a:gd name="textAreaLeft" fmla="*/ 0 w 13033440"/>
              <a:gd name="textAreaRight" fmla="*/ 13033800 w 1303344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6230880" y="-9360"/>
            <a:ext cx="6773760" cy="906120"/>
          </a:xfrm>
          <a:custGeom>
            <a:avLst/>
            <a:gdLst>
              <a:gd name="textAreaLeft" fmla="*/ 0 w 6773760"/>
              <a:gd name="textAreaRight" fmla="*/ 6774120 w 677376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27000" y="287280"/>
            <a:ext cx="13057560" cy="924120"/>
            <a:chOff x="-27000" y="287280"/>
            <a:chExt cx="13057560" cy="92412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27000" y="287280"/>
              <a:ext cx="13026960" cy="924120"/>
              <a:chOff x="-27000" y="287280"/>
              <a:chExt cx="13026960" cy="92412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0" y="287280"/>
                <a:ext cx="12991680" cy="92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6640" y="679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300" spc="-1" strike="noStrike">
                  <a:solidFill>
                    <a:srgbClr val="ffffff"/>
                  </a:solidFill>
                  <a:latin typeface="Chalkboar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27000" y="351720"/>
              <a:ext cx="13057560" cy="802440"/>
              <a:chOff x="-27000" y="351720"/>
              <a:chExt cx="13057560" cy="8024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60" y="351720"/>
                <a:ext cx="13032720" cy="80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6640" y="744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300" spc="-1" strike="noStrike">
                  <a:solidFill>
                    <a:srgbClr val="ffffff"/>
                  </a:solidFill>
                  <a:latin typeface="Chalkboar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1" marL="909720" indent="-35100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2" marL="1300320" indent="-351000">
              <a:spcBef>
                <a:spcPts val="9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3" marL="1689120" indent="-298440">
              <a:spcBef>
                <a:spcPts val="9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4" marL="2079720" indent="-298440">
              <a:spcBef>
                <a:spcPts val="924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5" marL="2079720" indent="-298440">
              <a:spcBef>
                <a:spcPts val="924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lvl="6" marL="2079720" indent="-298440">
              <a:spcBef>
                <a:spcPts val="924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d1eaee"/>
                </a:solidFill>
                <a:latin typeface="Chalkboar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1eaee"/>
                </a:solidFill>
                <a:latin typeface="Chalkboard"/>
              </a:rPr>
              <a:t>&lt;date/time&gt;</a:t>
            </a:r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792240" y="9040680"/>
            <a:ext cx="4768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1270880" y="9040680"/>
            <a:ext cx="1082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d1eaee"/>
                </a:solidFill>
                <a:latin typeface="Chalkboar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3791-6FD5-493D-B342-C3C88CE9A847}" type="slidenum">
              <a:rPr b="0" lang="en-US" sz="1700" spc="-1" strike="noStrike">
                <a:solidFill>
                  <a:srgbClr val="d1eaee"/>
                </a:solidFill>
                <a:latin typeface="Chalkboard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4502160" y="1575360"/>
            <a:ext cx="7478640" cy="5851440"/>
          </a:xfrm>
          <a:custGeom>
            <a:avLst/>
            <a:gdLst>
              <a:gd name="textAreaLeft" fmla="*/ 0 w 7478640"/>
              <a:gd name="textAreaRight" fmla="*/ 7372080 w 7478640"/>
              <a:gd name="textAreaTop" fmla="*/ 360 h 5851440"/>
              <a:gd name="textAreaBottom" fmla="*/ 5852160 h 5851440"/>
            </a:gdLst>
            <a:ahLst/>
            <a:rect l="textAreaLeft" t="textAreaTop" r="textAreaRight" b="textAreaBottom"/>
            <a:pathLst>
              <a:path w="7477760" h="5852160">
                <a:moveTo>
                  <a:pt x="0" y="0"/>
                </a:moveTo>
                <a:lnTo>
                  <a:pt x="7264390" y="0"/>
                </a:lnTo>
                <a:lnTo>
                  <a:pt x="7477760" y="213370"/>
                </a:lnTo>
                <a:lnTo>
                  <a:pt x="7477760" y="5852160"/>
                </a:lnTo>
                <a:lnTo>
                  <a:pt x="0" y="58521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11383920" y="7622280"/>
            <a:ext cx="220680" cy="22104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14040" y="8272080"/>
            <a:ext cx="13033440" cy="1481040"/>
          </a:xfrm>
          <a:custGeom>
            <a:avLst/>
            <a:gdLst>
              <a:gd name="textAreaLeft" fmla="*/ 0 w 13033440"/>
              <a:gd name="textAreaRight" fmla="*/ 13033800 w 13033440"/>
              <a:gd name="textAreaTop" fmla="*/ 360 h 1481040"/>
              <a:gd name="textAreaBottom" fmla="*/ 1481760 h 1481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6230880" y="8845560"/>
            <a:ext cx="6773760" cy="907920"/>
          </a:xfrm>
          <a:custGeom>
            <a:avLst/>
            <a:gdLst>
              <a:gd name="textAreaLeft" fmla="*/ 0 w 6773760"/>
              <a:gd name="textAreaRight" fmla="*/ 6774120 w 6773760"/>
              <a:gd name="textAreaTop" fmla="*/ 360 h 907920"/>
              <a:gd name="textAreaBottom" fmla="*/ 908640 h 90792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1" marL="909720" indent="-351000">
              <a:spcBef>
                <a:spcPts val="9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2" marL="1300320" indent="-351000">
              <a:spcBef>
                <a:spcPts val="9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3" marL="1689120" indent="-298440">
              <a:spcBef>
                <a:spcPts val="9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4" marL="2079720" indent="-298440">
              <a:spcBef>
                <a:spcPts val="924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5" marL="2079720" indent="-298440"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lvl="6" marL="2079720" indent="-298440"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45c75"/>
                </a:solidFill>
                <a:latin typeface="Chalkboar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45c75"/>
                </a:solidFill>
                <a:latin typeface="Chalkboard"/>
              </a:rPr>
              <a:t>&lt;date/time&gt;</a:t>
            </a:r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792240" y="9040680"/>
            <a:ext cx="4768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11486880" y="9040680"/>
            <a:ext cx="866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45c75"/>
                </a:solidFill>
                <a:latin typeface="Chalkboar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3578-E8FD-447B-A4D6-07F1297503FB}" type="slidenum">
              <a:rPr b="0" lang="en-US" sz="1700" spc="-1" strike="noStrike">
                <a:solidFill>
                  <a:srgbClr val="045c75"/>
                </a:solidFill>
                <a:latin typeface="Chalkboard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66400" y="0"/>
            <a:ext cx="12737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Graph points on the coordinate plane to solve real-world and mathematical problems.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35040" y="6553080"/>
            <a:ext cx="12128400" cy="26416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7000"/>
          </a:bodyPr>
          <a:p>
            <a:pPr marL="376920" indent="-376920"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UW.GAP.5.M.G.02 Represent real world and mathematical problems by graphing points in the first quadrant of the coordinate plane, and interpret coordinate values of points in the context of the situation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4617b"/>
                </a:solidFill>
                <a:latin typeface="Calibri"/>
              </a:rPr>
              <a:t>Practice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  <a:p>
            <a:pPr marL="388800" indent="-38880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(0,4)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4617b"/>
                </a:solidFill>
                <a:latin typeface="Calibri"/>
              </a:rPr>
              <a:t>Increasing/Decreasing/ Intervals</a:t>
            </a:r>
            <a:endParaRPr b="0" lang="en-US" sz="6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ncreasing- going up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Decreasing – going down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388800" indent="-38880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ntervals- number counting by on graph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http://static.howstuffworks.com/gif/tables-graphs-statistics_line-graphs-basics5_rs.gif"/>
          <p:cNvPicPr/>
          <p:nvPr/>
        </p:nvPicPr>
        <p:blipFill>
          <a:blip r:embed="rId1"/>
          <a:stretch/>
        </p:blipFill>
        <p:spPr>
          <a:xfrm>
            <a:off x="3759120" y="4724280"/>
            <a:ext cx="5578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1360" y="0"/>
            <a:ext cx="11704320" cy="162576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Independent practice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77840" y="1879560"/>
            <a:ext cx="12585600" cy="68961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890640" indent="-389160">
              <a:spcBef>
                <a:spcPts val="9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Using a piece of grid paper, graph the following information and answer the questions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890640" indent="-389160">
              <a:spcBef>
                <a:spcPts val="9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Sara has saved $20.00. She earns $8 for each hour she works. If Sara saves all of her money, how much will she have after working 3 hours? 5 hours? 10 hours? Create a graph that shows the relationship between the hours Sara worked and the amount of money she has saved. What other information do you know from analyzing the graph?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761760"/>
            <a:ext cx="12369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Objective: I can graph points on a coordinate plane using real-world situations.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72760" y="434340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890640" indent="-38916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ET......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890640" indent="-38916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o think what is an integer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890640" indent="-38916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How do you order integers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890640" indent="-38916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hare with your table group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1640" y="-330120"/>
            <a:ext cx="11862000" cy="13968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Coordinate Grid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1066320"/>
            <a:ext cx="11861640" cy="5613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890640" indent="-389160">
              <a:spcBef>
                <a:spcPts val="9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 coordinate grid has two perpendicular lines, or axes, labeled like number lines.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890640" indent="-389160">
              <a:spcBef>
                <a:spcPts val="9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e horizontal axis is called the x-axis. The vertical axis is called the y-axis.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890640" indent="-389160">
              <a:spcBef>
                <a:spcPts val="9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e point where the x-axis and y-axis intersect is called the origin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4"/>
          <a:stretch/>
        </p:blipFill>
        <p:spPr>
          <a:xfrm>
            <a:off x="6400800" y="4521240"/>
            <a:ext cx="4484520" cy="494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17080" y="-74952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Ordered Pairs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2057040"/>
            <a:ext cx="12661920" cy="648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890640" indent="-389160">
              <a:spcBef>
                <a:spcPts val="9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e numbers on a coordinate grid are used to locate points. Each point can be identified by an ordered pair of numbers; that is, a number on the x-axis called an x-coordinate, and a number on the y-axis called a y-coordinate.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890640" indent="-389160">
              <a:spcBef>
                <a:spcPts val="9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Ordered pairs are written in parentheses (x-coordinate, y-coordinate). The origin is located at (0,0). Note that there is no space after the comma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1384272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Graphing coordinate pairs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82400" y="1523520"/>
            <a:ext cx="12077640" cy="2845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8000"/>
          </a:bodyPr>
          <a:p>
            <a:pPr marL="872640" indent="-381240">
              <a:spcBef>
                <a:spcPts val="9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e location of (2,5) is shown on the coordinate grid below. The x-coordinate is 2. The y-coordinate is 5. To locate (2,5), move 2 units to the right on the x-axis and 5 units up on the y-axis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3567240" y="4292640"/>
            <a:ext cx="5856120" cy="5371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1270080"/>
            <a:ext cx="1148076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100" spc="-1" strike="noStrike">
                <a:solidFill>
                  <a:srgbClr val="04617b"/>
                </a:solidFill>
                <a:latin typeface="Calibri"/>
              </a:rPr>
              <a:t>Graphing Coordinate pairs</a:t>
            </a:r>
            <a:endParaRPr b="0" lang="en-US" sz="7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507960" y="1218960"/>
            <a:ext cx="12738240" cy="35686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890640" indent="-389160">
              <a:spcBef>
                <a:spcPts val="9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e order in which you write x- and y-coordinates in an ordered pair is very important. The x-coordinate always comes first, followed by the y-coordinate. As you can see in the coordinate grid below, the ordered pairs (3,4) and (4,3) refer to two different points!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3686040" y="4114800"/>
            <a:ext cx="5818320" cy="566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4617b"/>
                </a:solidFill>
                <a:latin typeface="Calibri"/>
              </a:rPr>
              <a:t>Practice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  <a:p>
            <a:pPr marL="388800" indent="-38880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(3, 5)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4617b"/>
                </a:solidFill>
                <a:latin typeface="Calibri"/>
              </a:rPr>
              <a:t>Practice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  <a:p>
            <a:pPr marL="388800" indent="-38880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(4, 2)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880" y="100152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6516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4617b"/>
                </a:solidFill>
                <a:latin typeface="Calibri"/>
              </a:rPr>
              <a:t>Practice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50880" y="2752200"/>
            <a:ext cx="11702880" cy="6242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88800" indent="-38880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  <a:p>
            <a:pPr marL="388800" indent="-38880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(1,6)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rujillo, Leanna</dc:creator>
  <dc:description/>
  <dc:language>en-US</dc:language>
  <cp:lastModifiedBy>Clemencia Acevedo</cp:lastModifiedBy>
  <dcterms:modified xsi:type="dcterms:W3CDTF">2016-09-16T01:05:02Z</dcterms:modified>
  <cp:revision>2</cp:revision>
  <dc:subject/>
  <dc:title>Graph points on the coordinate plane to solve real-world and mathematical problems.</dc:title>
</cp:coreProperties>
</file>